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E645-7912-439A-B9D6-227AAC81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8444-726D-4D21-9B12-3D955A08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BF84-B6BC-421E-90C1-FE6A6C04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F453-6A90-4BDE-A73B-022FEF12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B3A-AB0B-44C6-9BC4-860583E5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F508-7010-42F7-A8A5-E474F113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54EE-B12F-48AE-8EDB-0A6ABC8B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948F-25F9-4243-9D06-BC6BBB2C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E7DF-FEC0-46B9-A7EB-43C4D83C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F007-46ED-40AA-BE76-2C4B7ED2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2BF8-87C8-419E-9CD4-3BBF06B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F1E7-3053-438B-A134-396510F2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BDE3-0B85-4AA0-B10B-046B9DFE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A2C7-A99F-42BC-AB45-1AF90FFC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BB7E-4F84-495C-AFE8-B2759FAA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495D-A8F0-475B-9737-FC1966C4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0597-A38F-455C-8E5D-B88A7CFC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4324-B8F7-4B37-8F55-38942101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F318-ADA3-47D2-ABB4-9925E430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4C73-EEB1-44EA-B804-442F6FB8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4678-D024-4D93-B6EC-33594865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1161-3E9F-4DCE-9422-1C88CDEA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092B-B958-4AE5-B0D0-CF1B5424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C738-8160-4912-AC72-434D929F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2A00-9A46-49D8-A759-C6A201DE75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A016-E09B-483B-84F3-01F9CA74B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ine cipher is another version of a substitution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tter is assigned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umbers are selected (a, b) between 0 and 25 such that the gcd(a,26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 and c represent letters (p,c are numbers between 0 and 26) where p is a plaintext letter and c is a ciphertext letter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13440" y="490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ap + b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55515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 = 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c - b)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31AE-5B9F-44CD-A8F7-45EE288F2E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key (a,b) = (7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d(7,2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6 = 15 (since 7 x 15 = 105 and 105 mod 26 =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3535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The general encipher/decipher equ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960" y="4087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7p + 3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4552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hot” is 7 14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040" y="506412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h)     = 7*7 + 3 mod 26 = 52 mod 26 = 0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3040" y="54594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o) = 7*14 + 3 mod 26 = 98 mod 26 = 23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8482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t)  = 7*19 + 3 mod 26 = 133 mod 26 = 6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5600" y="6246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B79E-690C-452C-8FFA-41159638B2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Cipher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5708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Affine option under the cipher menu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886120"/>
            <a:ext cx="7283520" cy="32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2766960"/>
            <a:ext cx="1164960" cy="784440"/>
          </a:xfrm>
          <a:prstGeom prst="wedgeRoundRectCallout">
            <a:avLst>
              <a:gd name="adj1" fmla="val -45097"/>
              <a:gd name="adj2" fmla="val 653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 the two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5040" y="2305080"/>
            <a:ext cx="1165320" cy="614160"/>
          </a:xfrm>
          <a:prstGeom prst="wedgeRoundRectCallout">
            <a:avLst>
              <a:gd name="adj1" fmla="val -45097"/>
              <a:gd name="adj2" fmla="val 972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set up you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0" y="2287440"/>
            <a:ext cx="1560600" cy="890640"/>
          </a:xfrm>
          <a:prstGeom prst="wedgeRoundRectCallout">
            <a:avLst>
              <a:gd name="adj1" fmla="val -55699"/>
              <a:gd name="adj2" fmla="val 9706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or message if you fail to select the correct ke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06280" y="620388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F65E-703A-4046-ACBA-DBB991E39A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0T08:51:09Z</dcterms:modified>
  <cp:revision>45</cp:revision>
  <dc:subject/>
  <dc:title>CAP Cryptographic Analysis Program</dc:title>
</cp:coreProperties>
</file>